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BD9-B9C7-43EC-8941-7A74ADB4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0D7-56D6-407B-80C0-5E1CB6E6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23F-B7D2-410E-A3AE-F28BBDC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151-BD92-4E86-8838-F5AA7381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D32-F2CF-499F-908B-834AAB1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8C0-050C-4C15-A724-51762B4F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897-03EF-48B3-85E6-F5DC23E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398-84AD-492A-99F1-06E44BB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C25-3A52-496F-9589-F1F43FC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851-5420-4BD0-8787-165A9B8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22D-5408-4B3A-88EB-18239B2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94F-DA7A-4242-A515-CAD0A97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661-00E8-40CB-9BB5-D43ACE146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701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9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view family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Hoy llevo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Arial"/>
              </a:rPr>
              <a:t>pantalones jeans, una camiseta morada, un suéter negro y unos zapatos tenis</a:t>
            </a: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compras los materiales escol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ablas con la empleada en la papele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color de pluma comp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nto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2"/>
          <p:cNvSpPr/>
          <p:nvPr/>
        </p:nvSpPr>
        <p:spPr>
          <a:xfrm>
            <a:off x="1143000" y="2022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1523880" y="3809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2"/>
          <p:cNvSpPr/>
          <p:nvPr/>
        </p:nvSpPr>
        <p:spPr>
          <a:xfrm>
            <a:off x="1676520" y="555768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de Vocabul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95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ndres’ family tree with the correct title of the members. (follow th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rbol, ejemplo"/>
          <p:cNvPicPr/>
          <p:nvPr/>
        </p:nvPicPr>
        <p:blipFill>
          <a:blip r:embed="rId1"/>
          <a:stretch/>
        </p:blipFill>
        <p:spPr>
          <a:xfrm>
            <a:off x="2286000" y="1905120"/>
            <a:ext cx="5181480" cy="479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119680" y="594360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ij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76720" y="28954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657600" y="28954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9718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3200400" y="4419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34290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50532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6095880" y="4724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648320" y="4495680"/>
            <a:ext cx="121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962520" y="586728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981080" y="47242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943600" y="45720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276720" y="419112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486400" y="603396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010280" y="553068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02920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2670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228600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ad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7315200" y="55627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5029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943600" y="6019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r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35812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cp:lastPrinted>2014-09-30T17:37:05Z</cp:lastPrinted>
  <dcterms:modified xsi:type="dcterms:W3CDTF">2015-10-13T02:26:20Z</dcterms:modified>
  <cp:revision>21</cp:revision>
  <dc:subject/>
  <dc:title>Slide 1</dc:title>
</cp:coreProperties>
</file>